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.jpeg" ContentType="image/jpeg"/>
  <Override PartName="/ppt/media/image61.jpeg" ContentType="image/jpeg"/>
  <Override PartName="/ppt/media/image40.png" ContentType="image/pn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4.jpeg"/><Relationship Id="rId7" Type="http://schemas.openxmlformats.org/officeDocument/2006/relationships/image" Target="../media/image46.jpeg"/><Relationship Id="rId8" Type="http://schemas.openxmlformats.org/officeDocument/2006/relationships/image" Target="../media/image55.jpeg"/><Relationship Id="rId9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379680" y="565200"/>
            <a:ext cx="590544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ffffff"/>
                </a:solidFill>
                <a:latin typeface="Gill Sans"/>
                <a:ea typeface="Gill Sans"/>
              </a:rPr>
              <a:t>Can   You </a:t>
            </a:r>
            <a:endParaRPr b="0" lang="en-US" sz="101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100" spc="-1" strike="noStrike">
                <a:solidFill>
                  <a:srgbClr val="ffffff"/>
                </a:solidFill>
                <a:latin typeface="Gill Sans"/>
                <a:ea typeface="Gill Sans"/>
              </a:rPr>
              <a:t>Guess  the  Vocabulary Word?</a:t>
            </a:r>
            <a:endParaRPr b="0" lang="en-US" sz="101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4122440" y="2540160"/>
            <a:ext cx="1270080" cy="13334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851040" y="863640"/>
            <a:ext cx="2070000" cy="27590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3"/>
          <a:stretch/>
        </p:blipFill>
        <p:spPr>
          <a:xfrm>
            <a:off x="9623520" y="4110120"/>
            <a:ext cx="2031840" cy="27097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4"/>
          <a:stretch/>
        </p:blipFill>
        <p:spPr>
          <a:xfrm>
            <a:off x="804960" y="4019400"/>
            <a:ext cx="2162160" cy="28828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9624960" y="800280"/>
            <a:ext cx="2021040" cy="26920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5657760" y="6384960"/>
            <a:ext cx="166392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These lights will shine and </a:t>
            </a:r>
            <a:r>
              <a:rPr b="0" lang="en-US" sz="6900" spc="-1" strike="noStrike">
                <a:solidFill>
                  <a:srgbClr val="ff3832"/>
                </a:solidFill>
                <a:latin typeface="Gill Sans"/>
              </a:rPr>
              <a:t>g_______</a:t>
            </a: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69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3683160" y="3060720"/>
            <a:ext cx="63496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8089920" y="4165560"/>
            <a:ext cx="4317840" cy="3238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701640" y="1523880"/>
            <a:ext cx="5580000" cy="37083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3"/>
          <a:stretch/>
        </p:blipFill>
        <p:spPr>
          <a:xfrm>
            <a:off x="8582040" y="679320"/>
            <a:ext cx="3645000" cy="28130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4331520" y="600480"/>
            <a:ext cx="2120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b31"/>
                </a:solidFill>
                <a:latin typeface="Gill Sans"/>
                <a:ea typeface="Gill Sans"/>
              </a:rPr>
              <a:t>glimm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5391000"/>
            <a:ext cx="781056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d you ever see lights that </a:t>
            </a:r>
            <a:r>
              <a:rPr b="0" lang="en-US" sz="4200" spc="-1" strike="noStrike">
                <a:solidFill>
                  <a:srgbClr val="ff1919"/>
                </a:solidFill>
                <a:latin typeface="Gill Sans"/>
                <a:ea typeface="Gill Sans"/>
              </a:rPr>
              <a:t>glimm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98520" y="-721080"/>
            <a:ext cx="6311880" cy="2661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7475400" y="3505320"/>
            <a:ext cx="3802320" cy="42289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722600" y="851040"/>
            <a:ext cx="957564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Each one of these pumpkins looks different.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  <a:ea typeface="Gill Sans"/>
              </a:rPr>
              <a:t>Each one has a different </a:t>
            </a:r>
            <a:r>
              <a:rPr b="0" lang="en-US" sz="4600" spc="-1" strike="noStrike">
                <a:solidFill>
                  <a:srgbClr val="24ff3b"/>
                </a:solidFill>
                <a:latin typeface="Gill Sans"/>
                <a:ea typeface="Gill Sans"/>
              </a:rPr>
              <a:t>e</a:t>
            </a:r>
            <a:r>
              <a:rPr b="0" lang="en-US" sz="4200" spc="-1" strike="noStrike">
                <a:solidFill>
                  <a:srgbClr val="24ff3b"/>
                </a:solidFill>
                <a:latin typeface="Gill Sans"/>
                <a:ea typeface="Gill Sans"/>
              </a:rPr>
              <a:t>________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1130400" y="938160"/>
            <a:ext cx="2755800" cy="21510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8852040" y="914400"/>
            <a:ext cx="2755800" cy="219708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7149960" y="4389480"/>
            <a:ext cx="2514600" cy="27604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414680" y="1093320"/>
            <a:ext cx="41626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1fff46"/>
                </a:solidFill>
                <a:latin typeface="Gill Sans"/>
                <a:ea typeface="Gill Sans"/>
              </a:rPr>
              <a:t>expression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5168160" y="7900560"/>
            <a:ext cx="5654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Can you tel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at they are feeling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927000" y="3968640"/>
            <a:ext cx="5295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5ff0b"/>
                </a:solidFill>
                <a:latin typeface="Gill Sans"/>
                <a:ea typeface="Gill Sans"/>
              </a:rPr>
              <a:t>Make your favorite expression and we will guess how you are feeling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This man can do more than one thing at a time.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He is </a:t>
            </a:r>
            <a:r>
              <a:rPr b="0" lang="en-US" sz="5200" spc="-1" strike="noStrike">
                <a:solidFill>
                  <a:srgbClr val="ff2222"/>
                </a:solidFill>
                <a:latin typeface="Gill Sans"/>
              </a:rPr>
              <a:t>v</a:t>
            </a: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__________.</a:t>
            </a:r>
            <a:br>
              <a:rPr sz="5200"/>
            </a:b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4216320" y="4160880"/>
            <a:ext cx="354348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48240" y="2044440"/>
            <a:ext cx="615960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b35"/>
                </a:solidFill>
                <a:latin typeface="Gill Sans"/>
              </a:rPr>
              <a:t>versatile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825480" y="2573280"/>
            <a:ext cx="3835440" cy="3853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702560" y="4381560"/>
            <a:ext cx="3968640" cy="42418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308240" y="6775560"/>
            <a:ext cx="5346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749"/>
                </a:solidFill>
                <a:latin typeface="Gill Sans"/>
                <a:ea typeface="Gill Sans"/>
              </a:rPr>
              <a:t>Can you dance AND sing at the same time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These people are having a </a:t>
            </a:r>
            <a:r>
              <a:rPr b="0" lang="en-US" sz="6600" spc="-1" strike="noStrike">
                <a:solidFill>
                  <a:srgbClr val="27ff1f"/>
                </a:solidFill>
                <a:latin typeface="Gill Sans"/>
              </a:rPr>
              <a:t>d_________</a:t>
            </a:r>
            <a:r>
              <a:rPr b="0" lang="en-US" sz="6600" spc="-1" strike="noStrike">
                <a:solidFill>
                  <a:srgbClr val="ffffff"/>
                </a:solidFill>
                <a:latin typeface="Gill Sans"/>
              </a:rPr>
              <a:t> time dancing!</a:t>
            </a:r>
            <a:endParaRPr b="0" lang="en-US" sz="6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7810560" y="34797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2994120" y="2755800"/>
            <a:ext cx="2886120" cy="42418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612120" y="6074280"/>
            <a:ext cx="5433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e like to do hip hop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35080" y="457200"/>
            <a:ext cx="533412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1cff23"/>
                </a:solidFill>
                <a:latin typeface="Gill Sans"/>
              </a:rPr>
              <a:t>delightful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9672480" y="584280"/>
            <a:ext cx="2252880" cy="22222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1386000" y="355680"/>
            <a:ext cx="1944720" cy="22222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9715680" y="4389480"/>
            <a:ext cx="2412720" cy="24685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231920" y="44067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762440" y="2495520"/>
            <a:ext cx="347976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ff5a"/>
                </a:solidFill>
                <a:latin typeface="Gill Sans"/>
                <a:ea typeface="Gill Sans"/>
              </a:rPr>
              <a:t>What do you think is a delightful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ff5a"/>
                </a:solidFill>
                <a:latin typeface="Gill Sans"/>
                <a:ea typeface="Gill Sans"/>
              </a:rPr>
              <a:t>thing to do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5181480" y="4935600"/>
            <a:ext cx="3009960" cy="19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Gill Sans"/>
              </a:rPr>
              <a:t>Oops! This man is very </a:t>
            </a:r>
            <a:br>
              <a:rPr sz="7400"/>
            </a:br>
            <a:r>
              <a:rPr b="0" lang="en-US" sz="7400" spc="-1" strike="noStrike">
                <a:solidFill>
                  <a:srgbClr val="ff0f34"/>
                </a:solidFill>
                <a:latin typeface="Gill Sans"/>
              </a:rPr>
              <a:t>c______</a:t>
            </a:r>
            <a:r>
              <a:rPr b="0" lang="en-US" sz="7400" spc="-1" strike="noStrike">
                <a:solidFill>
                  <a:srgbClr val="ffffff"/>
                </a:solidFill>
                <a:latin typeface="Gill Sans"/>
              </a:rPr>
              <a:t>!</a:t>
            </a:r>
            <a:endParaRPr b="0" lang="en-US" sz="7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3809880" y="4254480"/>
            <a:ext cx="444528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02200" y="1002960"/>
            <a:ext cx="4000320" cy="148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0b20"/>
                </a:solidFill>
                <a:latin typeface="Gill Sans"/>
              </a:rPr>
              <a:t>clumsy</a:t>
            </a:r>
            <a:endParaRPr b="0" lang="en-US" sz="73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9178920" y="1397160"/>
            <a:ext cx="2352600" cy="25146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907920" y="660240"/>
            <a:ext cx="2400480" cy="24004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514600" y="3614760"/>
            <a:ext cx="3225960" cy="3319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7289640" y="4795920"/>
            <a:ext cx="302292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is presentation is for classroom use only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Gill Sans"/>
              </a:rPr>
              <a:t>The cat is running away.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Gill Sans"/>
              </a:rPr>
              <a:t>We have to </a:t>
            </a:r>
            <a:r>
              <a:rPr b="0" lang="en-US" sz="6300" spc="-1" strike="noStrike">
                <a:solidFill>
                  <a:srgbClr val="14ff44"/>
                </a:solidFill>
                <a:latin typeface="Gill Sans"/>
              </a:rPr>
              <a:t>c________</a:t>
            </a:r>
            <a:r>
              <a:rPr b="0" lang="en-US" sz="6300" spc="-1" strike="noStrike">
                <a:solidFill>
                  <a:srgbClr val="ffffff"/>
                </a:solidFill>
                <a:latin typeface="Gill Sans"/>
              </a:rPr>
              <a:t>him!</a:t>
            </a:r>
            <a:endParaRPr b="0" lang="en-US" sz="63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5283360" y="5002200"/>
            <a:ext cx="292068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431280"/>
            <a:ext cx="7404120" cy="2070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What would you like to </a:t>
            </a:r>
            <a:r>
              <a:rPr b="0" lang="en-US" sz="6900" spc="-1" strike="noStrike">
                <a:solidFill>
                  <a:srgbClr val="0dff5f"/>
                </a:solidFill>
                <a:latin typeface="Gill Sans"/>
              </a:rPr>
              <a:t>capture</a:t>
            </a: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?</a:t>
            </a:r>
            <a:endParaRPr b="0" lang="en-US" sz="69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0023480" y="5854680"/>
            <a:ext cx="2379600" cy="22608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3384720" y="5854680"/>
            <a:ext cx="2108160" cy="226548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6784920" y="2755800"/>
            <a:ext cx="2633760" cy="17654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10252080" y="177840"/>
            <a:ext cx="2201760" cy="20700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5"/>
          <a:stretch/>
        </p:blipFill>
        <p:spPr>
          <a:xfrm>
            <a:off x="925560" y="2666880"/>
            <a:ext cx="205884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00120" y="1218960"/>
            <a:ext cx="7670520" cy="2044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This is a wild animal.</a:t>
            </a:r>
            <a:br>
              <a:rPr sz="6900"/>
            </a:b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It is </a:t>
            </a:r>
            <a:r>
              <a:rPr b="0" lang="en-US" sz="6900" spc="-1" strike="noStrike">
                <a:solidFill>
                  <a:srgbClr val="ff182a"/>
                </a:solidFill>
                <a:latin typeface="Gill Sans"/>
              </a:rPr>
              <a:t>f_____</a:t>
            </a:r>
            <a:r>
              <a:rPr b="0" lang="en-US" sz="69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69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944960" y="4368960"/>
            <a:ext cx="246852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98880" y="495360"/>
            <a:ext cx="6083280" cy="139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mic Sans MS"/>
                <a:ea typeface="Comic Sans MS"/>
              </a:rPr>
              <a:t>fierc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10775880" y="838080"/>
            <a:ext cx="1536840" cy="15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8026560" y="2044800"/>
            <a:ext cx="1854000" cy="17049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819000" y="558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tretch/>
        </p:blipFill>
        <p:spPr>
          <a:xfrm>
            <a:off x="1390680" y="3467160"/>
            <a:ext cx="1638360" cy="15397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4424400" y="2654280"/>
            <a:ext cx="1792080" cy="17017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6"/>
          <a:stretch/>
        </p:blipFill>
        <p:spPr>
          <a:xfrm>
            <a:off x="10514160" y="3886200"/>
            <a:ext cx="2084400" cy="13971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7"/>
          <a:stretch/>
        </p:blipFill>
        <p:spPr>
          <a:xfrm>
            <a:off x="7994520" y="5764320"/>
            <a:ext cx="1917720" cy="18223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8"/>
          <a:stretch/>
        </p:blipFill>
        <p:spPr>
          <a:xfrm>
            <a:off x="2971800" y="5956200"/>
            <a:ext cx="1549440" cy="11620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424680" y="4550040"/>
            <a:ext cx="637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1527"/>
                </a:solidFill>
                <a:latin typeface="Comic Sans MS"/>
                <a:ea typeface="Comic Sans MS"/>
              </a:rPr>
              <a:t>Which animals are fierce</a:t>
            </a:r>
            <a:r>
              <a:rPr b="0" lang="en-US" sz="4200" spc="-1" strike="noStrike">
                <a:solidFill>
                  <a:srgbClr val="ff1527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87240" y="723600"/>
            <a:ext cx="8813880" cy="184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omeone is in trouble.   We have to send the </a:t>
            </a:r>
            <a:r>
              <a:rPr b="0" lang="en-US" sz="4800" spc="-1" strike="noStrike">
                <a:solidFill>
                  <a:srgbClr val="ff1c3e"/>
                </a:solidFill>
                <a:latin typeface="Gill Sans"/>
              </a:rPr>
              <a:t>r_______</a:t>
            </a: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 truck.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4680000" y="3695760"/>
            <a:ext cx="293364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30440" y="3098520"/>
            <a:ext cx="430524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f45"/>
                </a:solidFill>
                <a:latin typeface="Gill Sans"/>
              </a:rPr>
              <a:t>rescue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9918720" y="4241880"/>
            <a:ext cx="1895400" cy="127008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8305920" y="920880"/>
            <a:ext cx="1436400" cy="214632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1382760" y="4235400"/>
            <a:ext cx="1896840" cy="1270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4"/>
          <a:stretch/>
        </p:blipFill>
        <p:spPr>
          <a:xfrm>
            <a:off x="2603520" y="1371600"/>
            <a:ext cx="1895400" cy="1270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1638000" y="6010560"/>
            <a:ext cx="971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se men and women are very brav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 wonder what will happen. </a:t>
            </a:r>
            <a:br>
              <a:rPr sz="6400"/>
            </a:b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I am in </a:t>
            </a:r>
            <a:r>
              <a:rPr b="0" lang="en-US" sz="8400" spc="-1" strike="noStrike">
                <a:solidFill>
                  <a:srgbClr val="1cff7b"/>
                </a:solidFill>
                <a:latin typeface="Gill Sans"/>
              </a:rPr>
              <a:t>s_______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!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5435640" y="4241880"/>
            <a:ext cx="1765440" cy="176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448240" y="4648320"/>
            <a:ext cx="394992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ffbb"/>
                </a:solidFill>
                <a:latin typeface="Gill Sans"/>
              </a:rPr>
              <a:t>suspense</a:t>
            </a:r>
            <a:endParaRPr b="0" lang="en-US" sz="7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066680" y="431640"/>
            <a:ext cx="1155960" cy="115596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298680" y="1863720"/>
            <a:ext cx="1236960" cy="12366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10007640" y="431640"/>
            <a:ext cx="1752480" cy="115596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1765440" y="4292640"/>
            <a:ext cx="1155600" cy="115560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5"/>
          <a:stretch/>
        </p:blipFill>
        <p:spPr>
          <a:xfrm>
            <a:off x="5791320" y="431640"/>
            <a:ext cx="1425600" cy="11559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6"/>
          <a:stretch/>
        </p:blipFill>
        <p:spPr>
          <a:xfrm>
            <a:off x="5918040" y="2984400"/>
            <a:ext cx="1155960" cy="11559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7"/>
          <a:stretch/>
        </p:blipFill>
        <p:spPr>
          <a:xfrm>
            <a:off x="10071000" y="4292640"/>
            <a:ext cx="1627200" cy="11556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9005400" y="1941480"/>
            <a:ext cx="3339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Will he make it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291960" y="5797440"/>
            <a:ext cx="410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  <a:ea typeface="Gill Sans"/>
              </a:rPr>
              <a:t>How will this book end?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345680" y="3072960"/>
            <a:ext cx="1029996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Practice these words and then go on to lesson 3 &amp; 4</a:t>
            </a:r>
            <a:br>
              <a:rPr sz="8400"/>
            </a:b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ffffff"/>
                </a:solidFill>
                <a:latin typeface="Gill Sans"/>
              </a:rPr>
              <a:t>This little boy is sick.</a:t>
            </a:r>
            <a:br>
              <a:rPr sz="7300"/>
            </a:br>
            <a:r>
              <a:rPr b="0" lang="en-US" sz="7300" spc="-1" strike="noStrike">
                <a:solidFill>
                  <a:srgbClr val="ffffff"/>
                </a:solidFill>
                <a:latin typeface="Gill Sans"/>
              </a:rPr>
              <a:t>His mom is </a:t>
            </a:r>
            <a:r>
              <a:rPr b="0" lang="en-US" sz="7300" spc="-1" strike="noStrike">
                <a:solidFill>
                  <a:srgbClr val="ff1c22"/>
                </a:solidFill>
                <a:latin typeface="Gill Sans"/>
              </a:rPr>
              <a:t>c</a:t>
            </a:r>
            <a:r>
              <a:rPr b="0" lang="en-US" sz="7300" spc="-1" strike="noStrike">
                <a:solidFill>
                  <a:srgbClr val="ff2834"/>
                </a:solidFill>
                <a:latin typeface="Gill Sans"/>
              </a:rPr>
              <a:t>______</a:t>
            </a:r>
            <a:r>
              <a:rPr b="0" lang="en-US" sz="7300" spc="-1" strike="noStrike">
                <a:solidFill>
                  <a:srgbClr val="ffffff"/>
                </a:solidFill>
                <a:latin typeface="Gill Sans"/>
              </a:rPr>
              <a:t> him.</a:t>
            </a:r>
            <a:endParaRPr b="0" lang="en-US" sz="73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269040" y="2984400"/>
            <a:ext cx="329400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3987720"/>
            <a:ext cx="901692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omforting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09480" y="882720"/>
            <a:ext cx="1828800" cy="27493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4113360" y="1117440"/>
            <a:ext cx="2900160" cy="227340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9004320" y="814320"/>
            <a:ext cx="2095560" cy="30132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4"/>
          <a:stretch/>
        </p:blipFill>
        <p:spPr>
          <a:xfrm>
            <a:off x="9012240" y="5549760"/>
            <a:ext cx="2443320" cy="271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468360" y="5372280"/>
            <a:ext cx="2097000" cy="264132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3708360" y="6121440"/>
            <a:ext cx="36957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d you ever need </a:t>
            </a:r>
            <a:r>
              <a:rPr b="0" lang="en-US" sz="4200" spc="-1" strike="noStrike">
                <a:solidFill>
                  <a:srgbClr val="ff1b45"/>
                </a:solidFill>
                <a:latin typeface="Gill Sans"/>
                <a:ea typeface="Gill Sans"/>
              </a:rPr>
              <a:t>comforting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This horse is very active. </a:t>
            </a:r>
            <a:br>
              <a:rPr sz="7000"/>
            </a:b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He is </a:t>
            </a:r>
            <a:r>
              <a:rPr b="0" lang="en-US" sz="7000" spc="-1" strike="noStrike">
                <a:solidFill>
                  <a:srgbClr val="2fff21"/>
                </a:solidFill>
                <a:latin typeface="Gill Sans"/>
              </a:rPr>
              <a:t>l_______</a:t>
            </a: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.</a:t>
            </a: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842080" y="3670200"/>
            <a:ext cx="377820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774720" y="546120"/>
            <a:ext cx="2413080" cy="336564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9169560" y="2730600"/>
            <a:ext cx="3009600" cy="26924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4660920" y="1409760"/>
            <a:ext cx="2730600" cy="297180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4"/>
          <a:stretch/>
        </p:blipFill>
        <p:spPr>
          <a:xfrm>
            <a:off x="1219320" y="5460840"/>
            <a:ext cx="3479760" cy="23371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01000" y="380880"/>
            <a:ext cx="4038480" cy="130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29ff2d"/>
                </a:solidFill>
                <a:latin typeface="Gill Sans"/>
              </a:rPr>
              <a:t>lively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4754880" y="5870880"/>
            <a:ext cx="7268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What do you do that is </a:t>
            </a:r>
            <a:r>
              <a:rPr b="0" lang="en-US" sz="4200" spc="-1" strike="noStrike">
                <a:solidFill>
                  <a:srgbClr val="21ff27"/>
                </a:solidFill>
                <a:latin typeface="Gill Sans"/>
                <a:ea typeface="Gill Sans"/>
              </a:rPr>
              <a:t>livel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ffffff"/>
                </a:solidFill>
                <a:latin typeface="Gill Sans"/>
              </a:rPr>
              <a:t>This animal is moving fast!</a:t>
            </a:r>
            <a:br>
              <a:rPr sz="7700"/>
            </a:br>
            <a:r>
              <a:rPr b="0" lang="en-US" sz="7700" spc="-1" strike="noStrike">
                <a:solidFill>
                  <a:srgbClr val="ffffff"/>
                </a:solidFill>
                <a:latin typeface="Gill Sans"/>
              </a:rPr>
              <a:t>This animal is </a:t>
            </a:r>
            <a:r>
              <a:rPr b="0" lang="en-US" sz="7700" spc="-1" strike="noStrike">
                <a:solidFill>
                  <a:srgbClr val="23ff45"/>
                </a:solidFill>
                <a:latin typeface="Gill Sans"/>
              </a:rPr>
              <a:t>f</a:t>
            </a:r>
            <a:r>
              <a:rPr b="0" lang="en-US" sz="7700" spc="-1" strike="noStrike">
                <a:solidFill>
                  <a:srgbClr val="ffffff"/>
                </a:solidFill>
                <a:latin typeface="Gill Sans"/>
              </a:rPr>
              <a:t>_____.</a:t>
            </a:r>
            <a:endParaRPr b="0" lang="en-US" sz="77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6006960" y="3860640"/>
            <a:ext cx="393732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748800"/>
            <a:ext cx="104648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5ff35"/>
                </a:solidFill>
                <a:latin typeface="Comic Sans MS"/>
                <a:ea typeface="Comic Sans MS"/>
              </a:rPr>
              <a:t>fleet</a:t>
            </a:r>
            <a:endParaRPr b="0" lang="en-US" sz="9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193760" y="5410080"/>
            <a:ext cx="3441600" cy="23623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746840" y="2703600"/>
            <a:ext cx="3289320" cy="2138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257440" y="5944680"/>
            <a:ext cx="5247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id you ever hear of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 fleet-footed rabbi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This is also called a fleet.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863640" y="3289320"/>
            <a:ext cx="4154400" cy="224784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8356680" y="3251160"/>
            <a:ext cx="3492360" cy="23241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4699080" y="6134040"/>
            <a:ext cx="3898800" cy="259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